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D682A-BABB-4E02-AC5E-B337BD819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94B8-E085-4B6B-9A52-B9838DA2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CF917-928E-488A-ADF7-94E006028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675FF-AFCB-42A5-969C-F21343032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5A39-4CF1-4C0C-AB6F-FFAB95A7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E1385-70FA-4380-8BF3-A972662A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E95F-33D5-4DBD-85EC-8B8F61F67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0280-2378-438B-83B0-331E51BC3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4AA8-A0D5-4961-9712-793A7376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52DC-EA3B-4A9E-A9C2-67889BA9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F7F5-2991-4778-8E53-ED0DBA9D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48D9A-2E48-418B-A8E6-F3CB1C034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C6D6-2BB2-4F54-9396-102DBE7AC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icoh.com/environment/society/report/02/img/pop17_bod_img.jpg&amp;imgrefurl=http://www.ricoh.com/environment/society/report/02/p17.html&amp;usg=__DHVxskivW9AjkoEE_Ec6c8IUDHQ=&amp;h=358&amp;w=480&amp;sz=87&amp;hl=en&amp;start=2&amp;tbnid=O32ji-8MpkLQuM:&amp;tbnh=96&amp;tbnw=129&amp;prev=/images%3Fq%3Dtrans%2Bsiberian%2Brailway%26hl%3Den%26safe%3Dactive%26rls%3DIBMA,IBMA:2006-28,IBMA: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lobosapiens.net/data/reportpix/thumb/novosibirsk-report-1708-5.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sbras.ru/sicc/siberia3.gif&amp;imgrefurl=http://www.sbras.ru/sicc/siberia_.htm&amp;usg=__QvU4fcfDMPdtD5F9p-Gs3UO5AAM=&amp;h=233&amp;w=350&amp;sz=59&amp;hl=en&amp;start=47&amp;tbnid=8sZHuN1OcbEYgM:&amp;tbnh=80&amp;tbnw=120&amp;prev=/images%3Fq%3DSiberia%26start%3D40%26ndsp%3D20%26hl%3Den%26safe%3Dactive%26rls%3DIBMA,IBMA:2006-28,IBMA:en%26sa%3D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Eras Bold ITC"/>
              </a:rPr>
              <a:t>Trans-Siberian Railw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1676160"/>
            <a:ext cx="6400800" cy="3886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ayne Taylor, Adrienne Hill, Sydney Roberts</a:t>
            </a:r>
            <a:endParaRPr b="0" lang="en-US" sz="24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Whoo Hoo !!!!!!!!!!!!!!!</a:t>
            </a:r>
            <a:endParaRPr b="0" lang="en-US" sz="40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baud Screen"/>
              </a:rPr>
              <a:t>Come with us on the              Trans-Siberian Rai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1828440"/>
            <a:ext cx="40384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ot on the train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The people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 told us that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lon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ilroad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 It is six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 miles lo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a:hlinkClick r:id="rId1"/>
          </p:cNvPr>
          <p:cNvPicPr/>
          <p:nvPr/>
        </p:nvPicPr>
        <p:blipFill>
          <a:blip r:embed="rId2"/>
          <a:stretch/>
        </p:blipFill>
        <p:spPr>
          <a:xfrm>
            <a:off x="4952880" y="1752480"/>
            <a:ext cx="3505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4038480" cy="559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irst stop wa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osibirsk  which i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beria. We spent the night there It is the lar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in Siberia, it has 1.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 people. W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opped at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art gallery. </a:t>
            </a:r>
            <a:endParaRPr b="0" lang="en-US" sz="2800" spc="-1" strike="noStrike">
              <a:solidFill>
                <a:srgbClr val="000000"/>
              </a:solidFill>
              <a:latin typeface="Arial"/>
            </a:endParaRPr>
          </a:p>
        </p:txBody>
      </p:sp>
      <p:pic>
        <p:nvPicPr>
          <p:cNvPr id="46" name="" descr="">
            <a:hlinkClick r:id="rId1"/>
          </p:cNvPr>
          <p:cNvPicPr/>
          <p:nvPr/>
        </p:nvPicPr>
        <p:blipFill>
          <a:blip r:embed="rId2"/>
          <a:stretch/>
        </p:blipFill>
        <p:spPr>
          <a:xfrm>
            <a:off x="5334120" y="2209680"/>
            <a:ext cx="31240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04920" y="1066320"/>
            <a:ext cx="45720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Outside it is freez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ry. The aver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n Siber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34 degrees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inheight. Russia h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igas. A taiga is an evergreen forest in subarctic climat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a:hlinkClick r:id="rId1"/>
          </p:cNvPr>
          <p:cNvPicPr/>
          <p:nvPr/>
        </p:nvPicPr>
        <p:blipFill>
          <a:blip r:embed="rId2"/>
          <a:stretch/>
        </p:blipFill>
        <p:spPr>
          <a:xfrm>
            <a:off x="5181480" y="21337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533160"/>
            <a:ext cx="4724280" cy="601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next stop was at Ulan Ude. Where we saw a huge sculpture of Lenin’s head. It is in the Guinness worlds records book for the biggest statue of Lenin. Ulan Ude is the third largest city in eastern Siberia. It has subarctic climate zones. </a:t>
            </a:r>
            <a:endParaRPr b="0" lang="en-US" sz="2800" spc="-1" strike="noStrike">
              <a:solidFill>
                <a:srgbClr val="000000"/>
              </a:solidFill>
              <a:latin typeface="Arial"/>
            </a:endParaRPr>
          </a:p>
        </p:txBody>
      </p:sp>
      <p:pic>
        <p:nvPicPr>
          <p:cNvPr id="50" name="" descr=""/>
          <p:cNvPicPr/>
          <p:nvPr/>
        </p:nvPicPr>
        <p:blipFill>
          <a:blip r:embed="rId1"/>
          <a:stretch/>
        </p:blipFill>
        <p:spPr>
          <a:xfrm>
            <a:off x="5486400" y="2590920"/>
            <a:ext cx="317196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03:56Z</dcterms:created>
  <dc:creator>laynetaylor</dc:creator>
  <dc:description/>
  <dc:language>en-US</dc:language>
  <cp:lastModifiedBy>laynetaylor</cp:lastModifiedBy>
  <dcterms:modified xsi:type="dcterms:W3CDTF">2008-12-02T20:52:53Z</dcterms:modified>
  <cp:revision>5</cp:revision>
  <dc:subject/>
  <dc:title>Trans-Siberian Railway</dc:title>
</cp:coreProperties>
</file>